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B4A4-EA4A-4584-A928-187EA3118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70E8-91F9-4796-AD1E-4AED8A4E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3E21-C0BD-4A43-91F6-4446A0A9D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F52B-3F08-48BD-A26D-EFFE3ABD6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32CD-C71D-4938-9F53-068494A8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B701-AB4C-4AA6-9ED3-3C38EF37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0F3F-3FF2-4728-8CF5-4E29C11C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4292-8716-46C2-AECD-6B023CF5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3398-5E68-4768-8277-70501F54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2F1C-50EA-4761-B180-D1A11C36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4C70-A679-444B-BACD-29B3D07D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B40D-1700-4B2C-8D16-AB63B3E5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3C83-1010-45F7-A03C-B243C948D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ebra 2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2: Graphing linear inequalities in one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2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linear inequalities in one variable graphic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ing the solution for an inequality in one vari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write the inequality as a comparison of two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the two functions on one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a vertical line through each point of intersection of the two functions.  Use a dotted line for &lt; or &gt;.  Use a solid line 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 ≥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the x values that make the inequality a true stat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rite the solution in set no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set not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x | x&lt;10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eads as “ the set of all x, where x is less than 10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rtion of the set before the | shows what set we are discussing (x) and the part after shows what numbers are part of the s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the set for all numbers greater than 2 and less than 5 look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x | 2&lt;x&lt;5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examp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+5&gt;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2x+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(x)=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which part is f(x) larger than g(x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x | x&gt;1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86200" y="1295280"/>
            <a:ext cx="4903920" cy="4919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V="1">
            <a:off x="4724280" y="1523520"/>
            <a:ext cx="2210040" cy="4343400"/>
          </a:xfrm>
          <a:prstGeom prst="line">
            <a:avLst/>
          </a:prstGeom>
          <a:ln w="507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14800" y="2209680"/>
            <a:ext cx="4419720" cy="0"/>
          </a:xfrm>
          <a:prstGeom prst="line">
            <a:avLst/>
          </a:prstGeom>
          <a:ln w="507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447920"/>
            <a:ext cx="0" cy="4495680"/>
          </a:xfrm>
          <a:prstGeom prst="line">
            <a:avLst/>
          </a:prstGeom>
          <a:ln w="507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62800" y="1143000"/>
            <a:ext cx="2209680" cy="5029200"/>
          </a:xfrm>
          <a:prstGeom prst="rect">
            <a:avLst/>
          </a:prstGeom>
          <a:solidFill>
            <a:srgbClr val="ffff00">
              <a:alpha val="6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≥5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x)= 2x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(x) = 5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{ x | x ≤ -1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86200" y="1295280"/>
            <a:ext cx="4903920" cy="4919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flipV="1">
            <a:off x="5638680" y="1676160"/>
            <a:ext cx="2057400" cy="419076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867280" y="1447920"/>
            <a:ext cx="914400" cy="4572000"/>
          </a:xfrm>
          <a:prstGeom prst="line">
            <a:avLst/>
          </a:prstGeom>
          <a:ln w="507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1523880"/>
            <a:ext cx="0" cy="4419720"/>
          </a:xfrm>
          <a:prstGeom prst="line">
            <a:avLst/>
          </a:prstGeom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1219320"/>
            <a:ext cx="2133360" cy="4952880"/>
          </a:xfrm>
          <a:prstGeom prst="rect">
            <a:avLst/>
          </a:prstGeom>
          <a:solidFill>
            <a:srgbClr val="ffff00">
              <a:alpha val="6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+2&gt; -2x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886200" y="1295280"/>
            <a:ext cx="490392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ote on word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for the two functions and figure out which one should be gre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the two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ed as you did bef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word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an A in class, I must get 9 points.  Each assignments is worth 2.5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fewest number of assignments I can complete and still get an 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13400" y="1295280"/>
            <a:ext cx="4176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6T21:59:47Z</dcterms:created>
  <dc:creator>nuhs</dc:creator>
  <dc:description/>
  <dc:language>en-US</dc:language>
  <cp:lastModifiedBy>nuhs</cp:lastModifiedBy>
  <dcterms:modified xsi:type="dcterms:W3CDTF">2007-11-02T20:25:11Z</dcterms:modified>
  <cp:revision>17</cp:revision>
  <dc:subject/>
  <dc:title>Algebra 2A</dc:title>
</cp:coreProperties>
</file>